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6E5-1895-4805-9F56-06B43D55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5A6-C7AA-4377-BCE5-BCB6E9F0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3DA-EBEB-42CB-8E96-661C4F44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3F1-A88A-47C5-9DA9-8C328B76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9919-EBFA-4A27-AC1D-F89A65FF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B160-6E6F-473D-833A-2B85B13A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450B-0F0A-4788-930B-39CB8102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728A-F121-49AE-BAAB-E88A5E18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B61F-7905-48A1-A83B-6F5ACB3E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9C4C-898B-4F17-BD8B-8E09FD02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E5D0-3B28-46BB-887D-6F122531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46F-4E46-4E1C-B92F-FBD61F6A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95D1-DF70-454E-8D69-2D85DD9D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0834-A655-494B-AB06-09A32123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E28B-AF6A-492C-AF2B-F9D34569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3CBF-3E93-4B9C-B212-15718845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F308-D2FA-4411-BC0B-67864F23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6A7-46BA-4B6C-9D69-D0DE10B4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732-BBD8-488C-BD28-CCBA2798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A83-B751-4489-9A8D-347AD666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6F1-736A-4AA4-8581-D65B23B2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FE6-05BE-4559-9F82-E6C656E9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A8F-B772-4DF6-A392-B37DA948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B46-58D0-4851-B90C-E2AB3473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6246-6F0D-48E6-BA33-AD2F7D83F61F}" type="slidenum">
              <a:rPr b="0" lang="pt-BR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48BA-A0C9-41BE-B3E6-B044BE34FD51}" type="slidenum">
              <a:rPr b="0" lang="pt-BR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129440" cy="50403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2661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ÇÕES PREVISTAS EXECUTADAS </a:t>
            </a:r>
            <a:br>
              <a:rPr sz="4000"/>
            </a:b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A EXECUTAR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8900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2565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Inscrições e elaboração do projeto PowerPoint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Offices: PowerPoi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Inscrições e elaboração do projeto LINUX EDUCACIONAL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6/03 a 17/0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8/03 a 20/0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8/03 a 20/0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BRI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urso LINUX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ntrega dos vídeos: Curso Linux e PNUD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trodução à Sala de aula virtual – aula inaugural do curso de 100 hora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0/03 a 03/0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3/04 a 17/0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3/04 a 17/0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AI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scrições e elaboração do projeto ATAC I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urso ATAC I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ntrega da Ficha de Freqüência e Desempenho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laboração do Vídeo: ATAC I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04/05 a 08/0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1/05 a 15/0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8/05 a 29/0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8/05 a 29/0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JUNH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ntrega Projeto - Workshop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ntrega do resultado do projet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9/04  a 29/0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5/05 a 08/07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LGUNS PONTOS PARA REFLETI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ntinuar atentas às datas previstas para término das atividades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RABÉNS PELO COMPROMISSO ASSUMIDO JUNTO À ESCOLA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UGIRO PARA O 2º SEMESTRE ATENÇÃO ESPECIAL AOS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PROFESSORES AUSENTES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DA STE NO 1º SEMEST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OBJETIV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7885080" cy="5761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619280" y="4149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N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360" y="530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S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2000" y="3645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COTEC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56000" y="1989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PROFESSOR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11280" y="3429000"/>
            <a:ext cx="36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UNOS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64000" y="50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UEM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COMO AVANÇAR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284720" y="2349360"/>
            <a:ext cx="3593880" cy="34038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3238560" cy="2095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84360" y="3429000"/>
            <a:ext cx="3240000" cy="21621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4572000" y="115920"/>
            <a:ext cx="3543480" cy="21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PELO NTE - STE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1º SEMESTRE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1º SEMESTRE</a:t>
            </a:r>
            <a:br>
              <a:rPr sz="4800"/>
            </a:b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6000" y="1653840"/>
            <a:ext cx="35528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037600" y="937800"/>
            <a:ext cx="5212080" cy="5211720"/>
            <a:chOff x="2037600" y="937800"/>
            <a:chExt cx="5212080" cy="5211720"/>
          </a:xfrm>
        </p:grpSpPr>
        <p:sp>
          <p:nvSpPr>
            <p:cNvPr id="200" name="_s77830"/>
            <p:cNvSpPr/>
            <p:nvPr/>
          </p:nvSpPr>
          <p:spPr>
            <a:xfrm>
              <a:off x="2736000" y="1636560"/>
              <a:ext cx="3815640" cy="38145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79af7d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_s77831"/>
            <p:cNvSpPr/>
            <p:nvPr/>
          </p:nvSpPr>
          <p:spPr>
            <a:xfrm rot="7200000">
              <a:off x="2736000" y="1635480"/>
              <a:ext cx="3814560" cy="38156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cc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_s77832"/>
            <p:cNvSpPr/>
            <p:nvPr/>
          </p:nvSpPr>
          <p:spPr>
            <a:xfrm rot="14400000">
              <a:off x="2736360" y="1635840"/>
              <a:ext cx="3814560" cy="38156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cc99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_s77833"/>
            <p:cNvSpPr/>
            <p:nvPr/>
          </p:nvSpPr>
          <p:spPr>
            <a:xfrm>
              <a:off x="5438520" y="2167200"/>
              <a:ext cx="1163520" cy="11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TEC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_s77834"/>
            <p:cNvSpPr/>
            <p:nvPr/>
          </p:nvSpPr>
          <p:spPr>
            <a:xfrm>
              <a:off x="4062240" y="4550760"/>
              <a:ext cx="116352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E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_s77835"/>
            <p:cNvSpPr/>
            <p:nvPr/>
          </p:nvSpPr>
          <p:spPr>
            <a:xfrm>
              <a:off x="2685600" y="2167200"/>
              <a:ext cx="1163520" cy="11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TE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2700360" y="6381720"/>
          <a:ext cx="40384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6381720"/>
                    <a:ext cx="40384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FEVEREIRO  - MARÇ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Reunião com os professores das STE e professores multiplicadores do NTE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Visita às escolas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Orientação aos PSTE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evereiro – març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executada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evereiro – març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executada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evereiro – dezembr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executada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360" y="1598760"/>
            <a:ext cx="3879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Acompanhamento das atividades desenvolvidas pelos PSTE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Curso informática básica – Linux ou Windows (S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Projeto Brasil Ponto a Ponto (S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rço a dezembr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rço – abril – mai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 concluído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rço – abri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 concluído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urso Tecnologias na Educação: ensinando e aprendendo com as TIC (N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ojetos para I Encontro PSTE (S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bril – outubr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io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 concluído 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f1311"/>
                </a:solidFill>
                <a:latin typeface="Arial"/>
              </a:rPr>
              <a:t>ATAC II – Ambientes Tecnológicos de Aprendizagem Colaborativa e Proinfo integrado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f1311"/>
                </a:solidFill>
                <a:latin typeface="Arial"/>
              </a:rPr>
              <a:t>Acompanhamento das atividades programadas nos projetos de ensino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Junh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io – junho – julh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Arial"/>
              </a:rPr>
              <a:t>PELA STE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ARÇ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Elaboração e apresentação do Plano de Ação/2009</a:t>
            </a: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Redação para sugestão no Programa das Nações Unidas para o Desenvolvimento – Brasil Ponto a Ponto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Publicação Brasil Ponto a Ponto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Elaboração de projetos e planos de aulas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03/03 a 06/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(concluído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09/03 a 13/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16/03 a 26/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09/03 a 13/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( ?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12:47Z</dcterms:created>
  <dc:creator>Windows</dc:creator>
  <dc:description/>
  <dc:language>en-US</dc:language>
  <cp:lastModifiedBy>SEDMS</cp:lastModifiedBy>
  <dcterms:modified xsi:type="dcterms:W3CDTF">2009-07-07T11:52:39Z</dcterms:modified>
  <cp:revision>49</cp:revision>
  <dc:subject/>
  <dc:title>TECNOLOGIAS NA ESCOLA</dc:title>
</cp:coreProperties>
</file>